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41.jpeg" ContentType="image/jpe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46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47.jpeg" ContentType="image/jpeg"/>
  <Override PartName="/ppt/media/image4.png" ContentType="image/png"/>
  <Override PartName="/ppt/media/image48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70C7-42A3-4976-A6E9-E4C5FD8E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672-EA96-4866-984B-C13A01B2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EA2E-C646-4D83-A674-313D0631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2A5D-A494-42D4-8E6D-C30071436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D761-A06A-4BB5-8F72-5B2280D9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F950-60D5-421D-AE37-02E58122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E323-9CF2-4F7E-8E69-BAF44832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19D6-7710-449C-956F-235E9A1C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9FC1-5D8D-43EB-B9C0-8BB6752E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0D44-E9A1-403F-B118-5A196246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14D6-4025-414D-8DC6-4E370EBE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92FB-E412-44FC-BE69-C05C90FB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845E-CB81-4034-BC39-BCAF6C2D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F420-5E5C-4430-8600-303E665F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BAB4-9FD7-4F21-ABA5-E9DFC9C1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E5A0-E753-4B8C-82C8-24D227C7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0882-2219-4DAC-B9B7-F00FB84D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9F36D-EA61-4CDB-888C-435C2AAC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D206B-37A9-4414-A41A-102DC9F8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920BE-189E-49F8-B1A1-F3B125F8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ADF39-45E1-45FC-831D-2021C4A9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D7A80-B7B0-4E7B-929D-19C30C77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5B2-21CE-499C-B319-3993EA80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DD24C-394A-46E1-B134-97B1A3A1E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A7915-A5FE-41DC-9092-9DDCC240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7C654-4AAD-4E0F-95CC-D466847E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1AE56-23A0-4E6E-871F-F84722AE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CADA1-AAEB-4234-A90A-091F5CCA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78827-5EE9-43C4-953C-612892AC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75DF-EC37-40B0-B1A3-EBA0DA51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DD7E4-622C-4E8E-ADB7-343E2E87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188FB-34F4-4FFA-BCB8-F7CAC2D0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73FB5-5188-48AE-8F3B-DC2A664A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F9D5-6565-4F4F-8DDD-71C4B223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B7B21-1D97-4C06-9A76-BFA0CA27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CAD81-7C4C-4E64-986D-67A04FBC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C4CE2-37E8-41AD-9E4C-B1CD37AE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AB3FD-47C1-4AF4-A1C4-795A72C8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A7D93-FF13-4288-A98D-FF20F7BE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6AF35-2A64-4537-97FD-E78CD0D2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54A4D-7845-44E9-8899-50FADC19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2E748-A2FB-43E5-A332-0B4BC705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5BA5A-C7D6-4158-BD91-C061AEA6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82582-96D0-46B0-ACC0-7DF6B51C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C393-4DE5-4409-918B-5660210B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2E7F1-EA85-43C6-BCB7-C86B5089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3919D-C0B8-4936-856F-A830690E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5CB9C-24E3-4295-B265-4D15C869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83FF9-7E6C-4192-BAB4-CBDAF791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D5988-D932-424C-8090-8396D6AC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B3ECF-324D-4F6D-9591-FC53A82E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0C480-1460-49E1-9CAC-A2A6B003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FCC46-3D4B-461F-94FB-7A08F44D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C6DD9-BFE9-41AC-8860-A380BEA8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C71A8-957B-4B30-A6AE-39CF9E9F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99A-3391-4586-8418-3D24FDA7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E53DB-BB99-4540-AB5E-AF388E8BC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2335-E91C-4ED5-A743-3BB6E38F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10D-B72A-48C5-A6E4-835A17AA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CB2-8BCF-4467-B8EE-757555DD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5D85-243F-4797-8A4A-21EA19DA65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оугольник 6"/>
          <p:cNvGrpSpPr/>
          <p:nvPr/>
        </p:nvGrpSpPr>
        <p:grpSpPr>
          <a:xfrm>
            <a:off x="8156520" y="5937120"/>
            <a:ext cx="1152720" cy="1158840"/>
            <a:chOff x="8156520" y="5937120"/>
            <a:chExt cx="1152720" cy="1158840"/>
          </a:xfrm>
        </p:grpSpPr>
        <p:pic>
          <p:nvPicPr>
            <p:cNvPr id="42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8156520" y="5937120"/>
              <a:ext cx="11527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8215200" y="6000840"/>
              <a:ext cx="7146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Прямоугольник 7"/>
          <p:cNvGrpSpPr/>
          <p:nvPr/>
        </p:nvGrpSpPr>
        <p:grpSpPr>
          <a:xfrm>
            <a:off x="7156440" y="5937120"/>
            <a:ext cx="1152360" cy="1158840"/>
            <a:chOff x="7156440" y="5937120"/>
            <a:chExt cx="1152360" cy="115884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7156440" y="5937120"/>
              <a:ext cx="11523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215120" y="6000840"/>
              <a:ext cx="7146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8"/>
          <p:cNvGrpSpPr/>
          <p:nvPr/>
        </p:nvGrpSpPr>
        <p:grpSpPr>
          <a:xfrm>
            <a:off x="6156360" y="5937120"/>
            <a:ext cx="1152360" cy="1158840"/>
            <a:chOff x="6156360" y="5937120"/>
            <a:chExt cx="1152360" cy="1158840"/>
          </a:xfrm>
        </p:grpSpPr>
        <p:pic>
          <p:nvPicPr>
            <p:cNvPr id="48" name="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6156360" y="5937120"/>
              <a:ext cx="11523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215040" y="600084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Прямоугольник 9"/>
          <p:cNvGrpSpPr/>
          <p:nvPr/>
        </p:nvGrpSpPr>
        <p:grpSpPr>
          <a:xfrm>
            <a:off x="5151600" y="5937120"/>
            <a:ext cx="1157040" cy="1158840"/>
            <a:chOff x="5151600" y="5937120"/>
            <a:chExt cx="1157040" cy="1158840"/>
          </a:xfrm>
        </p:grpSpPr>
        <p:pic>
          <p:nvPicPr>
            <p:cNvPr id="51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5151600" y="5937120"/>
              <a:ext cx="115704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214960" y="600084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оугольник 10"/>
          <p:cNvGrpSpPr/>
          <p:nvPr/>
        </p:nvGrpSpPr>
        <p:grpSpPr>
          <a:xfrm>
            <a:off x="4151160" y="5937120"/>
            <a:ext cx="1159200" cy="1158840"/>
            <a:chOff x="4151160" y="5937120"/>
            <a:chExt cx="1159200" cy="1158840"/>
          </a:xfrm>
        </p:grpSpPr>
        <p:pic>
          <p:nvPicPr>
            <p:cNvPr id="54" name="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4151160" y="5937120"/>
              <a:ext cx="115920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214880" y="600084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оугольник 11"/>
          <p:cNvGrpSpPr/>
          <p:nvPr/>
        </p:nvGrpSpPr>
        <p:grpSpPr>
          <a:xfrm>
            <a:off x="3151080" y="5937120"/>
            <a:ext cx="1158840" cy="1158840"/>
            <a:chOff x="3151080" y="5937120"/>
            <a:chExt cx="1158840" cy="1158840"/>
          </a:xfrm>
        </p:grpSpPr>
        <p:pic>
          <p:nvPicPr>
            <p:cNvPr id="57" name="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3151080" y="5937120"/>
              <a:ext cx="115884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214800" y="600084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оугольник 12"/>
          <p:cNvGrpSpPr/>
          <p:nvPr/>
        </p:nvGrpSpPr>
        <p:grpSpPr>
          <a:xfrm>
            <a:off x="2225520" y="5937120"/>
            <a:ext cx="1150920" cy="1158840"/>
            <a:chOff x="2225520" y="5937120"/>
            <a:chExt cx="1150920" cy="1158840"/>
          </a:xfrm>
        </p:grpSpPr>
        <p:pic>
          <p:nvPicPr>
            <p:cNvPr id="60" name="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2225520" y="5937120"/>
              <a:ext cx="11509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286000" y="600084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Прямоугольник 13"/>
          <p:cNvGrpSpPr/>
          <p:nvPr/>
        </p:nvGrpSpPr>
        <p:grpSpPr>
          <a:xfrm>
            <a:off x="1225440" y="5937120"/>
            <a:ext cx="1152720" cy="1158840"/>
            <a:chOff x="1225440" y="5937120"/>
            <a:chExt cx="1152720" cy="1158840"/>
          </a:xfrm>
        </p:grpSpPr>
        <p:pic>
          <p:nvPicPr>
            <p:cNvPr id="63" name="Прямоугольник 13" descr=""/>
            <p:cNvPicPr/>
            <p:nvPr/>
          </p:nvPicPr>
          <p:blipFill>
            <a:blip r:embed="rId10"/>
            <a:stretch/>
          </p:blipFill>
          <p:spPr>
            <a:xfrm>
              <a:off x="1225440" y="5937120"/>
              <a:ext cx="11527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285920" y="600084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Прямоугольник 14"/>
          <p:cNvGrpSpPr/>
          <p:nvPr/>
        </p:nvGrpSpPr>
        <p:grpSpPr>
          <a:xfrm>
            <a:off x="225360" y="5937120"/>
            <a:ext cx="1152720" cy="1158840"/>
            <a:chOff x="225360" y="5937120"/>
            <a:chExt cx="1152720" cy="1158840"/>
          </a:xfrm>
        </p:grpSpPr>
        <p:pic>
          <p:nvPicPr>
            <p:cNvPr id="66" name="Прямоугольник 14" descr=""/>
            <p:cNvPicPr/>
            <p:nvPr/>
          </p:nvPicPr>
          <p:blipFill>
            <a:blip r:embed="rId11"/>
            <a:stretch/>
          </p:blipFill>
          <p:spPr>
            <a:xfrm>
              <a:off x="225360" y="5937120"/>
              <a:ext cx="11527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85840" y="600084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96A7-2361-49BB-8FD9-558F110F4C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Прямоугольник 6"/>
          <p:cNvGrpSpPr/>
          <p:nvPr/>
        </p:nvGrpSpPr>
        <p:grpSpPr>
          <a:xfrm>
            <a:off x="8083440" y="225360"/>
            <a:ext cx="1152720" cy="1152720"/>
            <a:chOff x="8083440" y="225360"/>
            <a:chExt cx="1152720" cy="1152720"/>
          </a:xfrm>
        </p:grpSpPr>
        <p:pic>
          <p:nvPicPr>
            <p:cNvPr id="110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8083440" y="225360"/>
              <a:ext cx="1152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143920" y="28584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Прямоугольник 7"/>
          <p:cNvGrpSpPr/>
          <p:nvPr/>
        </p:nvGrpSpPr>
        <p:grpSpPr>
          <a:xfrm>
            <a:off x="7083360" y="225360"/>
            <a:ext cx="1152720" cy="1152720"/>
            <a:chOff x="7083360" y="225360"/>
            <a:chExt cx="1152720" cy="1152720"/>
          </a:xfrm>
        </p:grpSpPr>
        <p:pic>
          <p:nvPicPr>
            <p:cNvPr id="113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7083360" y="225360"/>
              <a:ext cx="1152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143840" y="28584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Прямоугольник 8"/>
          <p:cNvGrpSpPr/>
          <p:nvPr/>
        </p:nvGrpSpPr>
        <p:grpSpPr>
          <a:xfrm>
            <a:off x="6083280" y="225360"/>
            <a:ext cx="1152720" cy="1152720"/>
            <a:chOff x="6083280" y="225360"/>
            <a:chExt cx="1152720" cy="1152720"/>
          </a:xfrm>
        </p:grpSpPr>
        <p:pic>
          <p:nvPicPr>
            <p:cNvPr id="116" name="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6083280" y="225360"/>
              <a:ext cx="1152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143760" y="28584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Прямоугольник 9"/>
          <p:cNvGrpSpPr/>
          <p:nvPr/>
        </p:nvGrpSpPr>
        <p:grpSpPr>
          <a:xfrm>
            <a:off x="5084640" y="225360"/>
            <a:ext cx="1150920" cy="1152720"/>
            <a:chOff x="5084640" y="225360"/>
            <a:chExt cx="1150920" cy="1152720"/>
          </a:xfrm>
        </p:grpSpPr>
        <p:pic>
          <p:nvPicPr>
            <p:cNvPr id="119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5084640" y="225360"/>
              <a:ext cx="11509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143680" y="28584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Прямоугольник 10"/>
          <p:cNvGrpSpPr/>
          <p:nvPr/>
        </p:nvGrpSpPr>
        <p:grpSpPr>
          <a:xfrm>
            <a:off x="4084560" y="225360"/>
            <a:ext cx="1152720" cy="1152720"/>
            <a:chOff x="4084560" y="225360"/>
            <a:chExt cx="1152720" cy="1152720"/>
          </a:xfrm>
        </p:grpSpPr>
        <p:pic>
          <p:nvPicPr>
            <p:cNvPr id="122" name="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4084560" y="225360"/>
              <a:ext cx="1152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143240" y="285840"/>
              <a:ext cx="7146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Прямоугольник 11"/>
          <p:cNvGrpSpPr/>
          <p:nvPr/>
        </p:nvGrpSpPr>
        <p:grpSpPr>
          <a:xfrm>
            <a:off x="3084480" y="225360"/>
            <a:ext cx="1152720" cy="1152720"/>
            <a:chOff x="3084480" y="225360"/>
            <a:chExt cx="1152720" cy="1152720"/>
          </a:xfrm>
        </p:grpSpPr>
        <p:pic>
          <p:nvPicPr>
            <p:cNvPr id="125" name="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3084480" y="225360"/>
              <a:ext cx="1152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143160" y="285840"/>
              <a:ext cx="7146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Дата 3"/>
          <p:cNvSpPr/>
          <p:nvPr/>
        </p:nvSpPr>
        <p:spPr>
          <a:xfrm>
            <a:off x="385920" y="641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B359-3B17-4506-A62D-A298F398DC7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Прямоугольник 13"/>
          <p:cNvGrpSpPr/>
          <p:nvPr/>
        </p:nvGrpSpPr>
        <p:grpSpPr>
          <a:xfrm>
            <a:off x="1152360" y="225360"/>
            <a:ext cx="1152720" cy="1152720"/>
            <a:chOff x="1152360" y="225360"/>
            <a:chExt cx="1152720" cy="1152720"/>
          </a:xfrm>
        </p:grpSpPr>
        <p:pic>
          <p:nvPicPr>
            <p:cNvPr id="129" name="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1152360" y="225360"/>
              <a:ext cx="1152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214280" y="285840"/>
              <a:ext cx="7146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Прямоугольник 14"/>
          <p:cNvGrpSpPr/>
          <p:nvPr/>
        </p:nvGrpSpPr>
        <p:grpSpPr>
          <a:xfrm>
            <a:off x="152280" y="225360"/>
            <a:ext cx="1152720" cy="1152720"/>
            <a:chOff x="152280" y="225360"/>
            <a:chExt cx="1152720" cy="1152720"/>
          </a:xfrm>
        </p:grpSpPr>
        <p:pic>
          <p:nvPicPr>
            <p:cNvPr id="132" name="Прямоугольник 14" descr=""/>
            <p:cNvPicPr/>
            <p:nvPr/>
          </p:nvPicPr>
          <p:blipFill>
            <a:blip r:embed="rId10"/>
            <a:stretch/>
          </p:blipFill>
          <p:spPr>
            <a:xfrm>
              <a:off x="152280" y="225360"/>
              <a:ext cx="1152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14200" y="285840"/>
              <a:ext cx="7146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Прямоугольник 15"/>
          <p:cNvGrpSpPr/>
          <p:nvPr/>
        </p:nvGrpSpPr>
        <p:grpSpPr>
          <a:xfrm>
            <a:off x="2152800" y="225360"/>
            <a:ext cx="1150920" cy="1152720"/>
            <a:chOff x="2152800" y="225360"/>
            <a:chExt cx="1150920" cy="1152720"/>
          </a:xfrm>
        </p:grpSpPr>
        <p:pic>
          <p:nvPicPr>
            <p:cNvPr id="135" name="Прямоугольник 15" descr=""/>
            <p:cNvPicPr/>
            <p:nvPr/>
          </p:nvPicPr>
          <p:blipFill>
            <a:blip r:embed="rId11"/>
            <a:stretch/>
          </p:blipFill>
          <p:spPr>
            <a:xfrm>
              <a:off x="2152800" y="225360"/>
              <a:ext cx="11509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2214720" y="28584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Номер слайда 5"/>
          <p:cNvSpPr/>
          <p:nvPr/>
        </p:nvSpPr>
        <p:spPr>
          <a:xfrm>
            <a:off x="6481800" y="641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F97A-3B7B-4B2C-A2B9-9DDCF5402B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C09B-0954-451A-9054-7EC2FBC34D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Прямоугольник 6"/>
          <p:cNvGrpSpPr/>
          <p:nvPr/>
        </p:nvGrpSpPr>
        <p:grpSpPr>
          <a:xfrm>
            <a:off x="5084640" y="5797440"/>
            <a:ext cx="1150920" cy="1152720"/>
            <a:chOff x="5084640" y="5797440"/>
            <a:chExt cx="1150920" cy="1152720"/>
          </a:xfrm>
        </p:grpSpPr>
        <p:pic>
          <p:nvPicPr>
            <p:cNvPr id="180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5084640" y="5797440"/>
              <a:ext cx="11509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3680" y="585792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Прямоугольник 7"/>
          <p:cNvGrpSpPr/>
          <p:nvPr/>
        </p:nvGrpSpPr>
        <p:grpSpPr>
          <a:xfrm>
            <a:off x="6010200" y="5797440"/>
            <a:ext cx="1152720" cy="1152720"/>
            <a:chOff x="6010200" y="5797440"/>
            <a:chExt cx="1152720" cy="1152720"/>
          </a:xfrm>
        </p:grpSpPr>
        <p:pic>
          <p:nvPicPr>
            <p:cNvPr id="183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6010200" y="5797440"/>
              <a:ext cx="1152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072120" y="5857920"/>
              <a:ext cx="7146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Прямоугольник 8"/>
          <p:cNvGrpSpPr/>
          <p:nvPr/>
        </p:nvGrpSpPr>
        <p:grpSpPr>
          <a:xfrm>
            <a:off x="7083360" y="5797440"/>
            <a:ext cx="1152720" cy="1152720"/>
            <a:chOff x="7083360" y="5797440"/>
            <a:chExt cx="1152720" cy="1152720"/>
          </a:xfrm>
        </p:grpSpPr>
        <p:pic>
          <p:nvPicPr>
            <p:cNvPr id="186" name="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7083360" y="5797440"/>
              <a:ext cx="1152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143840" y="585792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Прямоугольник 9"/>
          <p:cNvGrpSpPr/>
          <p:nvPr/>
        </p:nvGrpSpPr>
        <p:grpSpPr>
          <a:xfrm>
            <a:off x="8083440" y="5797440"/>
            <a:ext cx="1152720" cy="1152720"/>
            <a:chOff x="8083440" y="5797440"/>
            <a:chExt cx="1152720" cy="1152720"/>
          </a:xfrm>
        </p:grpSpPr>
        <p:pic>
          <p:nvPicPr>
            <p:cNvPr id="189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8083440" y="5797440"/>
              <a:ext cx="1152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8143920" y="585792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Прямоугольник 10"/>
          <p:cNvGrpSpPr/>
          <p:nvPr/>
        </p:nvGrpSpPr>
        <p:grpSpPr>
          <a:xfrm>
            <a:off x="8083440" y="4870440"/>
            <a:ext cx="1152720" cy="1152360"/>
            <a:chOff x="8083440" y="4870440"/>
            <a:chExt cx="1152720" cy="1152360"/>
          </a:xfrm>
        </p:grpSpPr>
        <p:pic>
          <p:nvPicPr>
            <p:cNvPr id="192" name="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8083440" y="4870440"/>
              <a:ext cx="115272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8143920" y="4929120"/>
              <a:ext cx="7142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Прямоугольник 11"/>
          <p:cNvGrpSpPr/>
          <p:nvPr/>
        </p:nvGrpSpPr>
        <p:grpSpPr>
          <a:xfrm>
            <a:off x="8083440" y="3938760"/>
            <a:ext cx="1152720" cy="1150920"/>
            <a:chOff x="8083440" y="3938760"/>
            <a:chExt cx="1152720" cy="1150920"/>
          </a:xfrm>
        </p:grpSpPr>
        <p:pic>
          <p:nvPicPr>
            <p:cNvPr id="195" name="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8083440" y="3938760"/>
              <a:ext cx="11527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8143920" y="400068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Прямоугольник 12"/>
          <p:cNvGrpSpPr/>
          <p:nvPr/>
        </p:nvGrpSpPr>
        <p:grpSpPr>
          <a:xfrm>
            <a:off x="8083440" y="3011400"/>
            <a:ext cx="1152720" cy="1152720"/>
            <a:chOff x="8083440" y="3011400"/>
            <a:chExt cx="1152720" cy="1152720"/>
          </a:xfrm>
        </p:grpSpPr>
        <p:pic>
          <p:nvPicPr>
            <p:cNvPr id="198" name="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8083440" y="3011400"/>
              <a:ext cx="1152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8143920" y="3071880"/>
              <a:ext cx="7142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0D23-795D-46EC-AF1F-356395B13F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Прямоугольник 6"/>
          <p:cNvGrpSpPr/>
          <p:nvPr/>
        </p:nvGrpSpPr>
        <p:grpSpPr>
          <a:xfrm>
            <a:off x="152280" y="5870520"/>
            <a:ext cx="1152720" cy="1152720"/>
            <a:chOff x="152280" y="5870520"/>
            <a:chExt cx="1152720" cy="1152720"/>
          </a:xfrm>
        </p:grpSpPr>
        <p:pic>
          <p:nvPicPr>
            <p:cNvPr id="242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52280" y="5870520"/>
              <a:ext cx="1152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14200" y="5929200"/>
              <a:ext cx="71460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Прямоугольник 7"/>
          <p:cNvGrpSpPr/>
          <p:nvPr/>
        </p:nvGrpSpPr>
        <p:grpSpPr>
          <a:xfrm>
            <a:off x="152280" y="4937040"/>
            <a:ext cx="1152720" cy="1158840"/>
            <a:chOff x="152280" y="4937040"/>
            <a:chExt cx="1152720" cy="1158840"/>
          </a:xfrm>
        </p:grpSpPr>
        <p:pic>
          <p:nvPicPr>
            <p:cNvPr id="245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152280" y="4937040"/>
              <a:ext cx="11527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214200" y="5000760"/>
              <a:ext cx="7146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Прямоугольник 8"/>
          <p:cNvGrpSpPr/>
          <p:nvPr/>
        </p:nvGrpSpPr>
        <p:grpSpPr>
          <a:xfrm>
            <a:off x="152280" y="4011480"/>
            <a:ext cx="1152720" cy="1150920"/>
            <a:chOff x="152280" y="4011480"/>
            <a:chExt cx="1152720" cy="1150920"/>
          </a:xfrm>
        </p:grpSpPr>
        <p:pic>
          <p:nvPicPr>
            <p:cNvPr id="248" name="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152280" y="4011480"/>
              <a:ext cx="11527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14200" y="4071960"/>
              <a:ext cx="7146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Прямоугольник 9"/>
          <p:cNvGrpSpPr/>
          <p:nvPr/>
        </p:nvGrpSpPr>
        <p:grpSpPr>
          <a:xfrm>
            <a:off x="152280" y="3084480"/>
            <a:ext cx="1152720" cy="1152720"/>
            <a:chOff x="152280" y="3084480"/>
            <a:chExt cx="1152720" cy="1152720"/>
          </a:xfrm>
        </p:grpSpPr>
        <p:pic>
          <p:nvPicPr>
            <p:cNvPr id="251" name="Прямоугольник 9" descr=""/>
            <p:cNvPicPr/>
            <p:nvPr/>
          </p:nvPicPr>
          <p:blipFill>
            <a:blip r:embed="rId6"/>
            <a:stretch/>
          </p:blipFill>
          <p:spPr>
            <a:xfrm>
              <a:off x="152280" y="3084480"/>
              <a:ext cx="1152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214200" y="3143160"/>
              <a:ext cx="71460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Прямоугольник 10"/>
          <p:cNvGrpSpPr/>
          <p:nvPr/>
        </p:nvGrpSpPr>
        <p:grpSpPr>
          <a:xfrm>
            <a:off x="152280" y="2152800"/>
            <a:ext cx="1152720" cy="1150920"/>
            <a:chOff x="152280" y="2152800"/>
            <a:chExt cx="1152720" cy="1150920"/>
          </a:xfrm>
        </p:grpSpPr>
        <p:pic>
          <p:nvPicPr>
            <p:cNvPr id="254" name="Прямоугольник 10" descr=""/>
            <p:cNvPicPr/>
            <p:nvPr/>
          </p:nvPicPr>
          <p:blipFill>
            <a:blip r:embed="rId7"/>
            <a:stretch/>
          </p:blipFill>
          <p:spPr>
            <a:xfrm>
              <a:off x="152280" y="2152800"/>
              <a:ext cx="11527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214200" y="2214720"/>
              <a:ext cx="7146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Прямоугольник 11"/>
          <p:cNvGrpSpPr/>
          <p:nvPr/>
        </p:nvGrpSpPr>
        <p:grpSpPr>
          <a:xfrm>
            <a:off x="152280" y="1225440"/>
            <a:ext cx="1152720" cy="1152720"/>
            <a:chOff x="152280" y="1225440"/>
            <a:chExt cx="1152720" cy="1152720"/>
          </a:xfrm>
        </p:grpSpPr>
        <p:pic>
          <p:nvPicPr>
            <p:cNvPr id="257" name="Прямоугольник 11" descr=""/>
            <p:cNvPicPr/>
            <p:nvPr/>
          </p:nvPicPr>
          <p:blipFill>
            <a:blip r:embed="rId8"/>
            <a:stretch/>
          </p:blipFill>
          <p:spPr>
            <a:xfrm>
              <a:off x="152280" y="1225440"/>
              <a:ext cx="1152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214200" y="1285920"/>
              <a:ext cx="7146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Прямоугольник 12"/>
          <p:cNvGrpSpPr/>
          <p:nvPr/>
        </p:nvGrpSpPr>
        <p:grpSpPr>
          <a:xfrm>
            <a:off x="152280" y="225360"/>
            <a:ext cx="1152720" cy="1152720"/>
            <a:chOff x="152280" y="225360"/>
            <a:chExt cx="1152720" cy="1152720"/>
          </a:xfrm>
        </p:grpSpPr>
        <p:pic>
          <p:nvPicPr>
            <p:cNvPr id="260" name="Прямоугольник 12" descr=""/>
            <p:cNvPicPr/>
            <p:nvPr/>
          </p:nvPicPr>
          <p:blipFill>
            <a:blip r:embed="rId9"/>
            <a:stretch/>
          </p:blipFill>
          <p:spPr>
            <a:xfrm>
              <a:off x="152280" y="225360"/>
              <a:ext cx="115272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214200" y="285840"/>
              <a:ext cx="71460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Номер слайда 5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C919-9499-4920-BB46-9460ECD5E6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8987-76DC-44C8-9F80-F63D33936C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Рисунок 13" descr="карта округа.jpg"/>
          <p:cNvPicPr/>
          <p:nvPr/>
        </p:nvPicPr>
        <p:blipFill>
          <a:blip r:embed="rId1"/>
          <a:stretch/>
        </p:blipFill>
        <p:spPr>
          <a:xfrm>
            <a:off x="1285920" y="0"/>
            <a:ext cx="667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Рисунок 2" descr="Северное сияние.jpg"/>
          <p:cNvPicPr/>
          <p:nvPr/>
        </p:nvPicPr>
        <p:blipFill>
          <a:blip r:embed="rId1"/>
          <a:stretch/>
        </p:blipFill>
        <p:spPr>
          <a:xfrm>
            <a:off x="214200" y="214200"/>
            <a:ext cx="8717040" cy="4286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22" name="TextBox 3"/>
          <p:cNvSpPr/>
          <p:nvPr/>
        </p:nvSpPr>
        <p:spPr>
          <a:xfrm>
            <a:off x="500040" y="4929120"/>
            <a:ext cx="82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Северное сия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Рисунок 2" descr="Супермаркет Стерх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426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24" name="TextBox 3"/>
          <p:cNvSpPr/>
          <p:nvPr/>
        </p:nvSpPr>
        <p:spPr>
          <a:xfrm>
            <a:off x="500040" y="4929120"/>
            <a:ext cx="82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Супермаркет «Стерх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Рисунок 2" descr="улица Карла Маркса.jpg"/>
          <p:cNvPicPr/>
          <p:nvPr/>
        </p:nvPicPr>
        <p:blipFill>
          <a:blip r:embed="rId1"/>
          <a:stretch/>
        </p:blipFill>
        <p:spPr>
          <a:xfrm>
            <a:off x="142920" y="214200"/>
            <a:ext cx="8786880" cy="4302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26" name="TextBox 3"/>
          <p:cNvSpPr/>
          <p:nvPr/>
        </p:nvSpPr>
        <p:spPr>
          <a:xfrm>
            <a:off x="500040" y="4929120"/>
            <a:ext cx="82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Улица Карла Марк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Рисунок 2" descr="улица Чубынина.jpg"/>
          <p:cNvPicPr/>
          <p:nvPr/>
        </p:nvPicPr>
        <p:blipFill>
          <a:blip r:embed="rId1"/>
          <a:stretch/>
        </p:blipFill>
        <p:spPr>
          <a:xfrm>
            <a:off x="214200" y="214200"/>
            <a:ext cx="8721720" cy="4286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28" name="TextBox 3"/>
          <p:cNvSpPr/>
          <p:nvPr/>
        </p:nvSpPr>
        <p:spPr>
          <a:xfrm>
            <a:off x="500040" y="4929120"/>
            <a:ext cx="82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Улица Чубыни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Рисунок 2" descr="Центр города.jpg"/>
          <p:cNvPicPr/>
          <p:nvPr/>
        </p:nvPicPr>
        <p:blipFill>
          <a:blip r:embed="rId1"/>
          <a:stretch/>
        </p:blipFill>
        <p:spPr>
          <a:xfrm>
            <a:off x="214200" y="214200"/>
            <a:ext cx="8721720" cy="4286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30" name="TextBox 3"/>
          <p:cNvSpPr/>
          <p:nvPr/>
        </p:nvSpPr>
        <p:spPr>
          <a:xfrm>
            <a:off x="500040" y="4929120"/>
            <a:ext cx="82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Центр горо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Рисунок 2" descr="Школа искусств.jpg"/>
          <p:cNvPicPr/>
          <p:nvPr/>
        </p:nvPicPr>
        <p:blipFill>
          <a:blip r:embed="rId1"/>
          <a:stretch/>
        </p:blipFill>
        <p:spPr>
          <a:xfrm>
            <a:off x="214200" y="214200"/>
            <a:ext cx="8755200" cy="4286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32" name="TextBox 3"/>
          <p:cNvSpPr/>
          <p:nvPr/>
        </p:nvSpPr>
        <p:spPr>
          <a:xfrm>
            <a:off x="500040" y="4929120"/>
            <a:ext cx="82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Школа Искусст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Рисунок 2" descr="1 (2).jpg"/>
          <p:cNvPicPr/>
          <p:nvPr/>
        </p:nvPicPr>
        <p:blipFill>
          <a:blip r:embed="rId1"/>
          <a:stretch/>
        </p:blipFill>
        <p:spPr>
          <a:xfrm>
            <a:off x="785880" y="214200"/>
            <a:ext cx="7559640" cy="504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34" name="TextBox 3"/>
          <p:cNvSpPr/>
          <p:nvPr/>
        </p:nvSpPr>
        <p:spPr>
          <a:xfrm>
            <a:off x="500040" y="5413320"/>
            <a:ext cx="82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Средняя школа №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Рисунок 2" descr="175716.jpg"/>
          <p:cNvPicPr/>
          <p:nvPr/>
        </p:nvPicPr>
        <p:blipFill>
          <a:blip r:embed="rId1"/>
          <a:stretch/>
        </p:blipFill>
        <p:spPr>
          <a:xfrm>
            <a:off x="-642960" y="0"/>
            <a:ext cx="10358640" cy="6897600"/>
          </a:xfrm>
          <a:prstGeom prst="rect">
            <a:avLst/>
          </a:prstGeom>
          <a:ln w="0">
            <a:noFill/>
          </a:ln>
        </p:spPr>
      </p:pic>
      <p:pic>
        <p:nvPicPr>
          <p:cNvPr id="306" name="О_СЕВЕРЕ_-_Ямал(Корнилов_И.)__(audiopoisk.com).mp3" descr=""/>
          <p:cNvPicPr/>
          <p:nvPr/>
        </p:nvPicPr>
        <p:blipFill>
          <a:blip r:embed="rId2"/>
          <a:stretch/>
        </p:blipFill>
        <p:spPr>
          <a:xfrm>
            <a:off x="8001000" y="6215040"/>
            <a:ext cx="428760" cy="4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Рисунок 1" descr="Квартал Изумрудный.jpg"/>
          <p:cNvPicPr/>
          <p:nvPr/>
        </p:nvPicPr>
        <p:blipFill>
          <a:blip r:embed="rId1"/>
          <a:stretch/>
        </p:blipFill>
        <p:spPr>
          <a:xfrm>
            <a:off x="214200" y="214200"/>
            <a:ext cx="8755200" cy="4286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08" name="TextBox 2"/>
          <p:cNvSpPr/>
          <p:nvPr/>
        </p:nvSpPr>
        <p:spPr>
          <a:xfrm>
            <a:off x="714240" y="492912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Квартал Изумрудн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Рисунок 2" descr="Киноконцертный зал.jpg"/>
          <p:cNvPicPr/>
          <p:nvPr/>
        </p:nvPicPr>
        <p:blipFill>
          <a:blip r:embed="rId1"/>
          <a:stretch/>
        </p:blipFill>
        <p:spPr>
          <a:xfrm>
            <a:off x="285840" y="214200"/>
            <a:ext cx="8609040" cy="4214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10" name="TextBox 3"/>
          <p:cNvSpPr/>
          <p:nvPr/>
        </p:nvSpPr>
        <p:spPr>
          <a:xfrm>
            <a:off x="714240" y="492912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Киноконцертный за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Рисунок 2" descr="Ледовые скульптуры.jpg"/>
          <p:cNvPicPr/>
          <p:nvPr/>
        </p:nvPicPr>
        <p:blipFill>
          <a:blip r:embed="rId1"/>
          <a:stretch/>
        </p:blipFill>
        <p:spPr>
          <a:xfrm>
            <a:off x="214200" y="214200"/>
            <a:ext cx="8755200" cy="4286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12" name="TextBox 3"/>
          <p:cNvSpPr/>
          <p:nvPr/>
        </p:nvSpPr>
        <p:spPr>
          <a:xfrm>
            <a:off x="714240" y="4929120"/>
            <a:ext cx="77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Ледовые фигу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Рисунок 2" descr="Многопрфильный колледж.jpg"/>
          <p:cNvPicPr/>
          <p:nvPr/>
        </p:nvPicPr>
        <p:blipFill>
          <a:blip r:embed="rId1"/>
          <a:stretch/>
        </p:blipFill>
        <p:spPr>
          <a:xfrm>
            <a:off x="214200" y="142920"/>
            <a:ext cx="8755200" cy="4286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14" name="TextBox 3"/>
          <p:cNvSpPr/>
          <p:nvPr/>
        </p:nvSpPr>
        <p:spPr>
          <a:xfrm>
            <a:off x="500040" y="4929120"/>
            <a:ext cx="82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ногопрофильный коллед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Рисунок 2" descr="Мост Факел ночью.jpg"/>
          <p:cNvPicPr/>
          <p:nvPr/>
        </p:nvPicPr>
        <p:blipFill>
          <a:blip r:embed="rId1"/>
          <a:stretch/>
        </p:blipFill>
        <p:spPr>
          <a:xfrm>
            <a:off x="285840" y="214200"/>
            <a:ext cx="8609040" cy="4214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16" name="TextBox 3"/>
          <p:cNvSpPr/>
          <p:nvPr/>
        </p:nvSpPr>
        <p:spPr>
          <a:xfrm>
            <a:off x="500040" y="4929120"/>
            <a:ext cx="82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Мост «Факел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Рисунок 2" descr="Обдорский острог.jpg"/>
          <p:cNvPicPr/>
          <p:nvPr/>
        </p:nvPicPr>
        <p:blipFill>
          <a:blip r:embed="rId1"/>
          <a:stretch/>
        </p:blipFill>
        <p:spPr>
          <a:xfrm>
            <a:off x="214200" y="214200"/>
            <a:ext cx="8755200" cy="4286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18" name="TextBox 3"/>
          <p:cNvSpPr/>
          <p:nvPr/>
        </p:nvSpPr>
        <p:spPr>
          <a:xfrm>
            <a:off x="500040" y="4929120"/>
            <a:ext cx="82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Обдорский остро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Рисунок 2" descr="Памятник северному оленю и мечеть.jpg"/>
          <p:cNvPicPr/>
          <p:nvPr/>
        </p:nvPicPr>
        <p:blipFill>
          <a:blip r:embed="rId1"/>
          <a:stretch/>
        </p:blipFill>
        <p:spPr>
          <a:xfrm>
            <a:off x="214200" y="214200"/>
            <a:ext cx="8755200" cy="42865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20" name="TextBox 3"/>
          <p:cNvSpPr/>
          <p:nvPr/>
        </p:nvSpPr>
        <p:spPr>
          <a:xfrm>
            <a:off x="285840" y="4929120"/>
            <a:ext cx="8501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Памятник «Северный олень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15:58:54Z</dcterms:created>
  <dc:creator>Gulnara</dc:creator>
  <dc:description/>
  <dc:language>en-US</dc:language>
  <cp:lastModifiedBy>Gulnara</cp:lastModifiedBy>
  <dcterms:modified xsi:type="dcterms:W3CDTF">2013-01-14T14:46:55Z</dcterms:modified>
  <cp:revision>17</cp:revision>
  <dc:subject/>
  <dc:title>Мой город</dc:title>
</cp:coreProperties>
</file>